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669C3-154D-4DD6-9D8A-FBBCA46A59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F1AA-705D-4A2A-A754-9A30E3D43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5AED-2262-432C-8C7B-BB597203E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229E-0C18-4520-91C8-88A3F3D6C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78F6-E16F-455C-9830-F3A55E21C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DA63-A2EC-43EA-AC81-4087003B7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22CC-0240-4972-92AE-ACF3C154B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7374-C6DD-4080-99AF-1D0556FA8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82C8-7740-43E5-A83B-AB935B8DD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B208-0CC8-4200-89AC-F6890E97E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5731-F404-41A3-9C7B-A0A8F1D89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5AD3-4B85-4CAF-B953-B89C71D07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C4F4-8E27-4FB9-96D0-F03E14B19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8640" indent="-27864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3148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9756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B44B2-E604-44AE-940A-248F3769A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180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38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08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144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396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ition of Slicer2.x Modules to Slicer3: Col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60020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Nicole Aucoin, BWH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Sebastien Barre, Ki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Yumin Yuan, Ki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1676520"/>
            <a:ext cx="507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196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852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18240" y="3733920"/>
            <a:ext cx="47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8920" y="4343400"/>
            <a:ext cx="339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Got some feedback from application us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ped up display of colour tab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Got feedback from application develop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drafted a plan to integrate tractograp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needs into the MRML color hierarc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4921200"/>
            <a:ext cx="292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8040" y="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2007 Project Half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72560" y="1598760"/>
            <a:ext cx="4193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lan:</a:t>
            </a: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 Subclass the vtkMRMLColorNode to create Proced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and PieceWise colour nodes, subclass the Procedural nod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create a FreeSurfer node. Update the ColorsGUI to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all subclas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Expected Challenges:</a:t>
            </a: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 Generalising the colour nodes for ea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exte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3209760"/>
            <a:ext cx="3611520" cy="319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98920" y="3657600"/>
            <a:ext cx="373068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720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